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004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2800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9AAB90E-06F7-4154-A6BE-5A1521C661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352C0E-A425-4A68-BBE7-F1E616318A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8DCEF6E-1773-4EF4-A4B2-94E00A8B92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9494776-9B38-4E67-9378-0F026831D6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7A0414-93F9-4F33-A384-00F2FAFB5E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5CA42E-2BFA-442E-96DB-EF2285F76C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746BF32-EB7D-49E6-A110-7FE97F3505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DAFE85-AFFE-47A8-85BF-F08B48B39E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32989C1-AFCB-4906-94C3-BB5DB4B931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D087A-D2F1-4320-8C5F-0AD1B652B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256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636C-7960-481D-88F3-86B108E73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48B8-2C08-4567-8C6C-76013A08C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25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2560"/>
            <a:ext cx="29199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6E575-AFAC-4243-8C45-1AA4172298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08CF-F9A1-41FB-8494-84B7DADDDF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26E4-6034-4D76-B044-08C91891B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1397-48C9-483F-81D6-773CC282C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04CC4-8D78-4069-92ED-74864AF4E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748E-C7F6-479D-AA3B-F19CDB5C5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F822-4B49-4AE1-B47F-AE22B5C37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25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71BA-2CE6-4C3F-93FE-6A917ED99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9069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9271-1764-4641-9579-3681BE558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61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93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5920" y="6886440"/>
            <a:ext cx="2344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F29734-C53D-4D65-802B-0F5882B640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6000" spc="-1" strike="noStrike">
                <a:solidFill>
                  <a:srgbClr val="000080"/>
                </a:solidFill>
                <a:latin typeface="Arial"/>
              </a:rPr>
              <a:t>BIE578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3280" y="1371600"/>
            <a:ext cx="907236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216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Aula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214200" algn="ctr">
              <a:lnSpc>
                <a:spcPct val="93000"/>
              </a:lnSpc>
              <a:tabLst>
                <a:tab algn="l" pos="0"/>
                <a:tab algn="l" pos="216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16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216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Reamostragem e Simul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3280" y="33660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mentação Analí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2040" y="1674720"/>
            <a:ext cx="944892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Monte Car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280099"/>
                </a:solidFill>
                <a:latin typeface="Courier New"/>
              </a:rPr>
              <a:t>simulação de uma distribuição </a:t>
            </a:r>
            <a:r>
              <a:rPr b="1" lang="en-US" sz="3200" spc="-1" strike="noStrike">
                <a:solidFill>
                  <a:srgbClr val="280099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280099"/>
                </a:solidFill>
                <a:latin typeface="Courier New"/>
              </a:rPr>
              <a:t>conhecida, ou mais ger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Reamostrag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280099"/>
                </a:solidFill>
                <a:latin typeface="Courier New"/>
              </a:rPr>
              <a:t>utiliza os dados para gerar </a:t>
            </a:r>
            <a:r>
              <a:rPr b="1" lang="en-US" sz="3200" spc="-1" strike="noStrike">
                <a:solidFill>
                  <a:srgbClr val="280099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280099"/>
                </a:solidFill>
                <a:latin typeface="Courier New"/>
              </a:rPr>
              <a:t>distribuições n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Bootstrap e Jackkn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280099"/>
                </a:solidFill>
                <a:latin typeface="Courier New"/>
              </a:rPr>
              <a:t>estima intervalos de confiança </a:t>
            </a:r>
            <a:r>
              <a:rPr b="1" lang="en-US" sz="3200" spc="-1" strike="noStrike">
                <a:solidFill>
                  <a:srgbClr val="280099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280099"/>
                </a:solidFill>
                <a:latin typeface="Courier New"/>
              </a:rPr>
              <a:t>de  </a:t>
            </a:r>
            <a:r>
              <a:rPr b="1" lang="en-US" sz="3200" spc="-1" strike="noStrike">
                <a:solidFill>
                  <a:srgbClr val="280099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280099"/>
                </a:solidFill>
                <a:latin typeface="Courier New"/>
              </a:rPr>
              <a:t>um parâme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6800" y="190512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Conjunto de métodos onde os dados são aleatorizados ou rearranjados para simular situaçãos esperadas pela H</a:t>
            </a:r>
            <a:r>
              <a:rPr b="1" lang="en-GB" sz="4000" spc="-1" strike="noStrike" baseline="-25000">
                <a:solidFill>
                  <a:srgbClr val="280099"/>
                </a:solidFill>
                <a:latin typeface="Courier New"/>
              </a:rPr>
              <a:t>0</a:t>
            </a: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64960"/>
            <a:ext cx="85471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nte Car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6800" y="190512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Não há o necessidade de assumir um tipo de distribuição de probabilidades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INTUITIVA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264960"/>
            <a:ext cx="85471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amostragem e Simul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44680" y="1905120"/>
            <a:ext cx="89154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buClr>
                <a:srgbClr val="000000"/>
              </a:buClr>
              <a:buSzPct val="45000"/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dificuldade computa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buClr>
                <a:srgbClr val="000000"/>
              </a:buClr>
              <a:buSzPct val="45000"/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resultado pode variar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buClr>
                <a:srgbClr val="000000"/>
              </a:buClr>
              <a:buSzPct val="45000"/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domínio de inferência </a:t>
            </a: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restr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- demanda um cenário nulo </a:t>
            </a: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adequ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64960"/>
            <a:ext cx="85471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amostragem e Simul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44680" y="1722600"/>
            <a:ext cx="8915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buClr>
                <a:srgbClr val="000000"/>
              </a:buClr>
              <a:buSzPct val="45000"/>
              <a:buFont typeface="Courier New"/>
              <a:buChar char="-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 </a:t>
            </a: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amostras aleatórias e </a:t>
            </a: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	</a:t>
            </a: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independ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buClr>
                <a:srgbClr val="000000"/>
              </a:buClr>
              <a:buSzPct val="45000"/>
              <a:buFont typeface="Courier New"/>
              <a:buChar char="-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 </a:t>
            </a: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a estatística descreve o </a:t>
            </a: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	</a:t>
            </a: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padrão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buClr>
                <a:srgbClr val="000000"/>
              </a:buClr>
              <a:buSzPct val="45000"/>
              <a:buFont typeface="Courier New"/>
              <a:buChar char="-"/>
              <a:tabLst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i="1" lang="en-GB" sz="4000" spc="-1" strike="noStrike">
                <a:solidFill>
                  <a:srgbClr val="280099"/>
                </a:solidFill>
                <a:latin typeface="Courier New"/>
              </a:rPr>
              <a:t> </a:t>
            </a: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o cenário nulo descreve o </a:t>
            </a: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	</a:t>
            </a:r>
            <a:r>
              <a:rPr b="1" lang="en-GB" sz="4000" spc="-1" strike="noStrike">
                <a:solidFill>
                  <a:srgbClr val="280099"/>
                </a:solidFill>
                <a:latin typeface="Courier New"/>
              </a:rPr>
              <a:t>padrão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3280" y="0"/>
            <a:ext cx="85467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ssup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264960"/>
            <a:ext cx="907236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atro Pass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874880"/>
            <a:ext cx="9612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741240" indent="-741240">
              <a:lnSpc>
                <a:spcPct val="89000"/>
              </a:lnSpc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280099"/>
                </a:solidFill>
                <a:latin typeface="Courier New"/>
              </a:rPr>
              <a:t>1. Definir a estatística de interes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89000"/>
              </a:lnSpc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280099"/>
                </a:solidFill>
                <a:latin typeface="Courier New"/>
              </a:rPr>
              <a:t>2. Criar a distribuição esperada para H</a:t>
            </a:r>
            <a:r>
              <a:rPr b="1" lang="en-US" sz="4400" spc="-1" strike="noStrike" baseline="-25000">
                <a:solidFill>
                  <a:srgbClr val="280099"/>
                </a:solidFill>
                <a:latin typeface="Courier New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89000"/>
              </a:lnSpc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280099"/>
                </a:solidFill>
                <a:latin typeface="Courier New"/>
              </a:rPr>
              <a:t>3. Uni ou bi-caud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89000"/>
              </a:lnSpc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280099"/>
                </a:solidFill>
                <a:latin typeface="Courier New"/>
              </a:rPr>
              <a:t>4. Comparar o valor observado e calcular “p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89000"/>
              </a:lnSpc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89000"/>
              </a:lnSpc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89000"/>
              </a:lnSpc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03280" y="157320"/>
            <a:ext cx="907092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BR" sz="4400" spc="-1" strike="noStrike">
                <a:solidFill>
                  <a:srgbClr val="c00000"/>
                </a:solidFill>
                <a:latin typeface="Arial"/>
              </a:rPr>
              <a:t>sample()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Estrutura Básic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3440" y="2187720"/>
            <a:ext cx="991728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sample(x, size, replace = FALSE,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prob = NU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3280" y="150840"/>
            <a:ext cx="90723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alibri"/>
              </a:rPr>
              <a:t>Depois de fazer a primeira Função no  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135240" y="2021040"/>
            <a:ext cx="4545000" cy="5538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87880" y="2179800"/>
            <a:ext cx="27432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u posso dominar o mundo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exandre</dc:creator>
  <dc:description/>
  <dc:language>en-US</dc:language>
  <cp:lastModifiedBy>Alexandre</cp:lastModifiedBy>
  <dcterms:modified xsi:type="dcterms:W3CDTF">2009-03-20T09:33:31Z</dcterms:modified>
  <cp:revision>207</cp:revision>
  <dc:subject/>
  <dc:title>BIE5782</dc:title>
</cp:coreProperties>
</file>